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09BB-95C4-421E-AB56-454A0195A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C4B3-D0CD-4F96-8549-5D43517DA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50CA-B532-48C9-A42E-81DFAE1B4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8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0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5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8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0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6724-3C34-43FD-B638-48D3E3BE7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E9AC-5B85-4017-B129-20D5239D04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D587-CE9F-46BC-9D54-DFFFD759F0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909C-E6AF-4174-AEAF-51227A62E2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0B45-D651-4B8B-A86C-AAD4286881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DE51-B35C-46AE-A578-2253F48CC6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D332-FBD9-48C1-AD45-B12D1AB77E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4AA1-3769-4E03-B5BC-CB2617558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750F-A2F0-4756-9F21-250DFB45F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56EA-FA91-4A9E-A634-55F26769D5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C718-28EF-4CCB-9577-AFE599F7A1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FF7F-9B24-484F-9E7A-4E54C58D32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62C2-56A8-4BA3-91DF-F6E9337344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8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0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8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0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9188-C1C8-4303-A333-0642293BE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A7BB-D8EE-4B83-898C-87CE9B04F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B352-270F-4544-A0AB-40A095598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1821-9AC5-415C-8DEB-6AFBE2179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CE3E-4705-4771-BE22-FB438BE9D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865B-0E89-4DC3-B74F-C419755B8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1805-BBB2-4049-B0BF-BD608116A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12760"/>
            <a:ext cx="806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823F-1D46-471A-861D-379FCE30B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174E-4CCD-4CE3-961D-D2D0FEBC5F64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9C2-DAE5-42BF-8F2C-246EC001FF08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C21D-785A-4926-8AA5-841ABF3018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장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컴퓨터 그래픽스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컴퓨터 그래픽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컴퓨터를 사용하여 그림을 생성하는 기술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수작업 대 컴퓨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생성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창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f.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영상처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스 응용분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560088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30D4-A84E-4115-9C45-50AACADA3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교육및 훈련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시뮬레이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032360" y="2852640"/>
            <a:ext cx="5111640" cy="35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C799-1019-4065-99D3-688A433D2D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과학분야 가시화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CI VIS(Scientific Visualiz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대용량 정보분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자연현상을 시각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현상 내부의 패턴이나 추세를 직관적으로 파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73672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2376360" cy="2211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292720" y="3716280"/>
            <a:ext cx="365760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F5A5-FC6F-4587-82FA-D61D7B6CEE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그래픽 사용자 인터페이스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UI(Graphic User Interfa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크롤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아이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사용자 편의를 고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835280" y="2205000"/>
            <a:ext cx="5790960" cy="421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FBD6-33C6-4A2C-86DC-4CE71B40BC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그래픽 히스토리 ‘</a:t>
            </a: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반 서더런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Ivan Sutherlan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컴퓨터 그래픽의 창시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대화형 컴퓨터 그래픽 개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라이트 펜으로 의사전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케치패드 프로젝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호 등 기본적 그래픽 요소를 사용하여 물체를 표현하는 방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물체를 조합하여  큰 물체를 모델링한다는 계층구조 모델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를 선택하여 이동하는 방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팝업 메뉴에 의한 사용자 입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00000" y="1052640"/>
          <a:ext cx="7777080" cy="1512720"/>
        </p:xfrm>
        <a:graphic>
          <a:graphicData uri="http://schemas.openxmlformats.org/drawingml/2006/table">
            <a:tbl>
              <a:tblPr/>
              <a:tblGrid>
                <a:gridCol w="890640"/>
                <a:gridCol w="2344680"/>
                <a:gridCol w="4541760"/>
              </a:tblGrid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William F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컴퓨터 그래픽”이란 용어를 최초로 사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Ivan Suth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컴퓨터 그래픽의 제반 개념을 확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Douglas Engleb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최초의 마우스 프로토타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Jack Bresen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한컴바탕"/>
                        </a:rPr>
                        <a:t>선분 그리기 알고리즘을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F086-F443-48ED-9782-321B8F09DD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그래픽 히스토리 ‘</a:t>
            </a: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 알고리즘의 시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00000" y="1413000"/>
          <a:ext cx="7993080" cy="4200480"/>
        </p:xfrm>
        <a:graphic>
          <a:graphicData uri="http://schemas.openxmlformats.org/drawingml/2006/table">
            <a:tbl>
              <a:tblPr/>
              <a:tblGrid>
                <a:gridCol w="924480"/>
                <a:gridCol w="2077920"/>
                <a:gridCol w="4990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Goura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구로 셰이딩 알고리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John Whitney J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컴퓨터 그래픽에 의한 최초의 영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 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West World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Edwin Catmu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텍스쳐 매핑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-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버퍼 알고리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Bui-Tong Ph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전반사에 의한 하이라이트 알고리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Martin Ne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베지어 표면 메쉬를 사용한 차 주전자 모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Benoit Mandelbr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프랙탈 이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Jim Bli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주변 매핑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,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범프 매핑 이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Steve Wozni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컬러 그래픽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PC: Appl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Frank C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앤티 에일리어싱 알고리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Kay, Greenbe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최초로 투명한 물체 면을 그려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4D93-CB40-4772-87A4-376B036097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그래픽 히스토리 ‘</a:t>
            </a: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C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시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래스터 그래픽 하드웨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하 엔진 출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11280" y="2276640"/>
          <a:ext cx="8281800" cy="3925800"/>
        </p:xfrm>
        <a:graphic>
          <a:graphicData uri="http://schemas.openxmlformats.org/drawingml/2006/table">
            <a:tbl>
              <a:tblPr/>
              <a:tblGrid>
                <a:gridCol w="1012680"/>
                <a:gridCol w="2759040"/>
                <a:gridCol w="451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Turner, Wh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광선 추적 알고리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Steven Lisber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3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차원 그래픽 애니메이션 “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Tron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John Walkn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Dan Dr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AutoCAD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Jaron La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데이터 장갑을 사용한 가상현실 영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Pix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Luxo Junior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가정용 게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Nintendo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Steve 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Lucasfilm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사의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Pixar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그래픽 그룹을 인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I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VGA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그래픽 카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I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SVGA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그래픽 카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Pix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Tin Toy"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아카데미상 수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88000" y="836640"/>
            <a:ext cx="1944720" cy="132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948360" y="836640"/>
            <a:ext cx="180036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0A02-7580-4C87-87DD-AAE7295843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그래픽 히스토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사실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Photo-realistic)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 영상에 주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6920" y="2421000"/>
          <a:ext cx="7775640" cy="3835440"/>
        </p:xfrm>
        <a:graphic>
          <a:graphicData uri="http://schemas.openxmlformats.org/drawingml/2006/table">
            <a:tbl>
              <a:tblPr/>
              <a:tblGrid>
                <a:gridCol w="781200"/>
                <a:gridCol w="3240000"/>
                <a:gridCol w="3754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Pixar: Hanrahan, Law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렌더링 소프트웨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Renderman"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Gary Y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3-D Studio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Disney and Pix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Beauty and the Beast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Silicon 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openGL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사양 발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Steven Spielbe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Jurassic Park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Pix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Toy Story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Microso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DirectX API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사양 발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John Carmack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Michael Abr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Quake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그래픽 엔진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NVI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GeForce 256 G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443640" y="981000"/>
            <a:ext cx="224784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B678-D159-40CD-B88D-C8F43F9E70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그래픽 히스토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영화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게임 응용의 시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16000" y="4149720"/>
          <a:ext cx="7200720" cy="1735200"/>
        </p:xfrm>
        <a:graphic>
          <a:graphicData uri="http://schemas.openxmlformats.org/drawingml/2006/table">
            <a:tbl>
              <a:tblPr/>
              <a:tblGrid>
                <a:gridCol w="904680"/>
                <a:gridCol w="2173320"/>
                <a:gridCol w="4122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"Final Fantas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The Spirits Within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Timothy Pur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광선추적 기법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GP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에 적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Id 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Doom Engine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발표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DirectX, openG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New Version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소망M"/>
                        </a:rPr>
                        <a:t>발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4392720" cy="27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A222-0CC4-4A66-A667-D2589D74D0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그래픽 이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지 구성요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장면 내부 물체를 정의하는 작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분의 끝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각형의 정점을 정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렌더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의될 물체를 그려내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이어 프레임 렌더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솔리드 렌더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258920" y="1557360"/>
            <a:ext cx="5545080" cy="98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406C-E2BE-456B-9FC8-494D795DDC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Verdana"/>
              </a:rPr>
              <a:t>캐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er-Aided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설계에 필요한 인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시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노력 등을 단축함으로써 설계효율을 향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er-Aided Manufactu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erical Control Ma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자동생산에 따른 효율과 가공의 정밀도 향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3168720" cy="2452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284720" y="3500280"/>
            <a:ext cx="4103640" cy="233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8A98-137E-4C9F-A6A9-072815A081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프레젠테이션 그래픽스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막대 차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Bar Chart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 그래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Line Chart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파이 차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ie Chart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입체 그래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urface Grap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백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百聞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 불여일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不如一見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선을 붙잡을 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195640" y="2276640"/>
            <a:ext cx="5057640" cy="381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BF09-7A3F-4A28-ADE3-AC55189C5D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가상현실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836640"/>
            <a:ext cx="8064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rtual Re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존재하지 않는 가상의 환경을 구성하되 그것이 마치 현실과 똑같이 느껴지도록 만드는 데 주안점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기술적 요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입체화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차원 입체 음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데이터 장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장면 데이터베이스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래픽 소프트웨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인지과학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전자공학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기계공학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음향학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50920" y="3500280"/>
            <a:ext cx="2886120" cy="293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771640" y="4005360"/>
            <a:ext cx="3305160" cy="247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867280" y="342900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CACD-CBB5-4A71-93AB-1EFFC2AD0A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rtual Walkthroug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137800" cy="45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3D3B-001B-4DAC-B33A-D20997656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미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무선 스타일러스 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그래픽 소프트웨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26920" y="2060640"/>
            <a:ext cx="3889440" cy="294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788000" y="2924280"/>
            <a:ext cx="4010040" cy="30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3652-BDFD-4A18-9EF2-1BAA9431E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애니메이션 및 게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0920" y="3213000"/>
          <a:ext cx="6408720" cy="3349800"/>
        </p:xfrm>
        <a:graphic>
          <a:graphicData uri="http://schemas.openxmlformats.org/drawingml/2006/table">
            <a:tbl>
              <a:tblPr/>
              <a:tblGrid>
                <a:gridCol w="4106520"/>
                <a:gridCol w="2302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소요 내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총 프레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정지화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)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119,592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주당 렌더링에 소요된 시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275,00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시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평균 정지 프레임 크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6 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렌더링에 사용된 실리콘 그래픽 서버 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27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프로세싱에 사용된 데스크 탑 컴퓨터 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166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프로세서 당 평균 메모리 용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156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개의 프로세서로 제작할 경우의 소요시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5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영화 저장을 위한 보조기억 장치 용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3.2 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매 순간 온 라인으로 공유된 프레임 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75,000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소망M"/>
                          <a:ea typeface="소망M"/>
                        </a:rPr>
                        <a:t>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3720960" cy="224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1384-56CF-4179-A9D6-1103BD9464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애니메이션 및 게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캐릭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배경화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애니메이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사용자와 프로그램 사이의 상호작용 설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상호작용에 걸리는 시간을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시장성 면에서 볼 때 무한한 가능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050920" y="981000"/>
            <a:ext cx="525636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8B8A-DD37-4174-84C2-F893EEAB1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교육 및 훈련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AI(Computer Aided Instru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학습 보조도구로서 컴퓨터를 활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컴퓨터에 내재하는 추론 기능과 지식 데이터베이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텍스트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각 정보를 활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Exploded View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6096240" cy="19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10E5-0652-4909-AC33-210C26CF6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09-07T07:07:46Z</dcterms:modified>
  <cp:revision>205</cp:revision>
  <dc:subject/>
  <dc:title>PowerPoint 프레젠테이션</dc:title>
</cp:coreProperties>
</file>